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4229-3093-4EB9-8971-26C98223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F975-A509-4169-B6F6-C732FB8E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EDC-1EB3-4F57-ACFF-0D66EF2B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873-1C23-4991-8384-04764E02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295A-C8ED-43C1-8F01-907A80A3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8C7-596A-40A8-AC38-B2767AE0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1F2-BD53-42CA-96BD-84A0AF31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518-40C9-400D-86EF-E70576AD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E9BF-3A26-4A76-9398-7198E0F4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341-C111-4EBD-8141-A35E87D9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AA3-5722-4A6D-B2AD-827D16C2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C484-FB91-4CF5-9B90-7CE8F0C5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BB3B-BB98-4F3D-BD78-48CAA60506A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752480"/>
            <a:ext cx="673416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مثل الإبن الشاطر رح إرجع يا رب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لعندك يا هالناطر عا دروب المحبة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بقدملك قلبي مثل الإبن الشاطر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وعندك بخلص دربي يا رب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362320" y="1219320"/>
            <a:ext cx="64483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( 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لا ما بدي الولايم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،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ولا لبس الخواتم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بدي قلبك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يا ربي يا حبيبي )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41148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( </a:t>
            </a: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2</a:t>
            </a: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86000" y="144792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إغفر ربي بُعدي وانسى لي زلات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وحدك ربي قادر تِسرِقني من ذات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أعطني حبك دفيني بحنانك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إسقيني نورك تَتشعشع حيات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362320" y="1219320"/>
            <a:ext cx="64483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( 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لا ما بدي الولايم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،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ولا لبس الخواتم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بدي قلبك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يا ربي يا حبيبي )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41148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( </a:t>
            </a: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2</a:t>
            </a: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1:12:37Z</dcterms:created>
  <dc:creator>bhadad</dc:creator>
  <dc:description/>
  <dc:language>en-US</dc:language>
  <cp:lastModifiedBy>bhadad</cp:lastModifiedBy>
  <dcterms:modified xsi:type="dcterms:W3CDTF">2003-12-02T21:22:45Z</dcterms:modified>
  <cp:revision>6</cp:revision>
  <dc:subject/>
  <dc:title>Slide 1</dc:title>
</cp:coreProperties>
</file>